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8766-EAAE-4D65-A71A-245B6857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140C-CFF3-4CFA-9338-1E2D126C1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158-8630-432C-915C-677547F6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B40-F687-4C11-98FC-788B7B92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995-053A-4C6E-A9CC-74D80780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6FB-01FF-4AC2-A677-C84F8053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924-465A-4938-AA3F-2DF226E0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992E-CCC5-4723-9E68-21A06250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644-CAF8-4203-8EC5-A8927EB9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EA5-F895-4CAA-8C22-4BACADD2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EC0-E774-4B29-997F-2C13BB23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C25-991E-4E9E-A3F4-CED8061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133-388C-46C2-88F0-DD79315B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406-0958-4E6E-883C-240961E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6445-29C3-4B00-A73B-A357E7AA1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Subtitle 2" descr=""/>
          <p:cNvPicPr/>
          <p:nvPr/>
        </p:nvPicPr>
        <p:blipFill>
          <a:blip r:embed="rId1"/>
          <a:stretch/>
        </p:blipFill>
        <p:spPr>
          <a:xfrm>
            <a:off x="536400" y="2523960"/>
            <a:ext cx="7858440" cy="2035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2648160" y="4869000"/>
            <a:ext cx="414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Проф. др Владимир Јаковљев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832840" y="2060640"/>
            <a:ext cx="333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3673440" y="28116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fso"/>
          <p:cNvPicPr/>
          <p:nvPr/>
        </p:nvPicPr>
        <p:blipFill>
          <a:blip r:embed="rId3"/>
          <a:stretch/>
        </p:blipFill>
        <p:spPr>
          <a:xfrm>
            <a:off x="324000" y="404640"/>
            <a:ext cx="998280" cy="97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grb za gore desno obradjen"/>
          <p:cNvPicPr/>
          <p:nvPr/>
        </p:nvPicPr>
        <p:blipFill>
          <a:blip r:embed="rId4"/>
          <a:stretch/>
        </p:blipFill>
        <p:spPr>
          <a:xfrm>
            <a:off x="7596360" y="26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2556000" y="530064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едседник Друштва физиолога Срб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2050920" y="5589720"/>
            <a:ext cx="597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ncil Member International Atherosclerosis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ут кисеоника од алвеола до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77300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птимал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арцијал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дахнут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ћ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,16-0,60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120 mmHg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460 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20 mmHg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пас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хипокс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,60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460 mmHg)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,0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1500 mmHg)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хиперокс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лвеолокапилар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мбра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бављ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ј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о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00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купн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личин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ранспорту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рвљ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раст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рачу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раствореног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ила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бављ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ј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а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лог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зицио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трол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спортова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ајње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рош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трацелуларни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vi-VN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13372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итроцит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о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езервоар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vi-VN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г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пуњав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ен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ход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ефицијент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љив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јо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слеђу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иларн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ид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терцелуларн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акл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зим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ход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воји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ил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кретач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уж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ут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илар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о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станц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пеш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ксигенаци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трацелуларн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О</a:t>
            </a:r>
            <a:r>
              <a:rPr b="0" lang="vi-VN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трацелуларн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vi-VN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1800" spc="-1" strike="noStrike">
                <a:solidFill>
                  <a:srgbClr val="000000"/>
                </a:solidFill>
                <a:latin typeface="Calibri"/>
              </a:rPr>
              <a:t>4.5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1800" spc="-1" strike="noStrike">
                <a:solidFill>
                  <a:srgbClr val="000000"/>
                </a:solidFill>
                <a:latin typeface="Calibri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i="1" lang="vi-VN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екида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ксидационих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итохондријама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мрти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екида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одукције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ењање парцијалног РО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од алвеола до субцелуларног ниво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Резултат слика за transport kiseonika"/>
          <p:cNvPicPr/>
          <p:nvPr/>
        </p:nvPicPr>
        <p:blipFill>
          <a:blip r:embed="rId1"/>
          <a:srcRect l="0" t="17653" r="0" b="0"/>
          <a:stretch/>
        </p:blipFill>
        <p:spPr>
          <a:xfrm>
            <a:off x="468360" y="2349360"/>
            <a:ext cx="8136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Транспорт кисеоника кроз биолошке мембра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тмосферски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ормокс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граниче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,13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mmol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куп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аците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порционал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раст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дахнут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ста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едовољно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разјашње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еханизам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ранспорт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биолошк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цитосол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ћелијских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рганел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ћелијских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рганела (митохондр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већа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с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рошњ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зроку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лачењ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нд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зроку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тпуштањ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личи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 ћелији 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граниче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бјаснит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ретпостав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18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енос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ћелијск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ембран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нтролиса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ад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епознатим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еханизмим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актива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пецијалн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анал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oxyporini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створљивос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лаз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ипербарични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перокс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Б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ос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б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ен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тању - поста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начаја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езервоа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тед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ста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за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Rastvorljivost kiseonika u plazmi u hiperbaričnim uslovima"/>
          <p:cNvPicPr/>
          <p:nvPr/>
        </p:nvPicPr>
        <p:blipFill>
          <a:blip r:embed="rId1"/>
          <a:stretch/>
        </p:blipFill>
        <p:spPr>
          <a:xfrm>
            <a:off x="755640" y="2781360"/>
            <a:ext cx="7561440" cy="251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826920" y="5516640"/>
            <a:ext cx="7490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зна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еноме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сић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нско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етен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ормал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спорту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рбаминохемоглоб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ранспорт кисеоник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ипербарични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Б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ст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начаја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езервоа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о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станц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х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уж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трем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уг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пози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пози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трем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исоки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ве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рект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јпр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ам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јвећ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иво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лве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лаг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пероксични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прав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оксич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фек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ач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двиде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узда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венир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е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веза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је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кладишт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ранспорт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честву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арцијалном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итиск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јер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лобода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олекул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ксихемоглоби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адрж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јест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купн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физолошк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хематски приказ транспорта кисеоник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кроз телесне т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Shematski prikaz transporta kiseonika kroz telesne tečnosti"/>
          <p:cNvPicPr/>
          <p:nvPr/>
        </p:nvPicPr>
        <p:blipFill>
          <a:blip r:embed="rId1"/>
          <a:stretch/>
        </p:blipFill>
        <p:spPr>
          <a:xfrm>
            <a:off x="539640" y="1197000"/>
            <a:ext cx="7848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1417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Физиолошки основи примене ХБО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Основни посту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олум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с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хурић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к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њ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/6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олум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ерт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с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твар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чк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зо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то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покс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асоконстрик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бн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ск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унк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вис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еукоц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иброц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стеоц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ур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БО дифузно повећава количину кисеоника у ткивима на рачун физички раствореног кисеоника у крвној плазми - ублажава или потпуно отклања хипоксију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хемоглобин је сатуриран 100 % и носи око 20 вол.% кисеоника хемијски везаног и око 2 вол.% раствореног у плаз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Основни посту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БО има директно бактериостатско и бактерицидно деловање на анаеробне микроорганизме - повећано стварање слободних радикала (повећана фагоцитна способност леукоци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БО има директни антиедематозни учинак - изазива васоконстрикцију крвних судова (сем у плућима и хипоксичном ткиву где изазива васодилатациј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јства ХБО на циркулаторни систе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мањује вискозност 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мањује агрегабилност тромбо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брзава неокапиларизациј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већава еластичност опне еритро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   ХБО убрзава стварање новог коштаног ткива - омогућава појаву капиларне пролиферације и реституише нормалне капацитете синтезе и пролиферације остеобл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Calibri"/>
              </a:rPr>
              <a:t>Хипербарична медицина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Calibri"/>
              </a:rPr>
              <a:t>*основне одлике*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арична медицина (ХМ) је клиничка дисциплина у којој је основни терапијски супстрат 100% кисеоник (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е удише у условима повишеног притиска изнад 1 бара (101 kPа; 760 mmHg; апсолутна атмосвера АТА) - хипербаричном оксигенација (ХБ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БО се спроводи у специјалним уређајима, хипербаричним или рекомпресионим комора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море могу бити једномесне и вишемес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Основни посту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77300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БО опоравља продукцију колагена и омогућава стварање потпоре новом ткиву - убрзава регенерацију кожног и поткожног ткива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растање ра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већање растојања перикапиларне дифузије кисе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 ХБО олакшава синаптичку трансмисију - побољшава когнитивне фун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 ХБО омогућава ефикасније одвијање метаболичких процеса у ћел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. ХБО испољава имуносупресивно деј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. Ефекти ХБО на канцерогенез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Физиолошки механизми одбране од хиперок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920" y="1773000"/>
            <a:ext cx="87138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ком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трем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перокс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азва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олошк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ре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азивајућ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утооксидаци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лик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ихов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актив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директ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курс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наж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ксидан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азива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ероксидаци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омолек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линичк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нифеста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оксич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фек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R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ul-Bertov ефекат (токсичне манифестације на CNS, кисеонична епилепсија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Lorain-Smithov ефекат (токсичне манифестације на плућима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Terryev ефекат (ретролентална фиброплазија)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мантовано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ронич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оксич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нифеста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ремећај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АНС-а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уготрајни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пазм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ерифер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лободнорадикалск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Free radical diseases) - Halliwell-Gutteridge 1999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Физиолошки механизми одбране од хиперок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2276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ханиз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бр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ргани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иш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дел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бр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ућ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рије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лвеол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илар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рв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трол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то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рије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зицио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лог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с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риј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с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трол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т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трол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ксидацио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итохондриј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нтиоксидатив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шт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Индикације за клиничку примену Х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2276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Тровање угљен монокси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огресивна бактеријска гангрена и целул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екротизирајући фасилитис и миоз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пеко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схемијска болест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ериферне васкуларн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еуматоидни арт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Тровање угљен моноксидо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*стање током ХБО терапије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8920" y="2276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2492280"/>
          <a:ext cx="8569440" cy="2826000"/>
        </p:xfrm>
        <a:graphic>
          <a:graphicData uri="http://schemas.openxmlformats.org/drawingml/2006/table">
            <a:tbl>
              <a:tblPr/>
              <a:tblGrid>
                <a:gridCol w="628920"/>
                <a:gridCol w="6041880"/>
                <a:gridCol w="1409760"/>
                <a:gridCol w="488880"/>
              </a:tblGrid>
              <a:tr h="320760">
                <a:tc>
                  <a:txBody>
                    <a:bodyPr lIns="80280" rIns="80280" tIns="64080" bIns="64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9fb"/>
                    </a:solidFill>
                  </a:tcPr>
                </a:tc>
                <a:tc>
                  <a:txBody>
                    <a:bodyPr lIns="80280" rIns="80280" tIns="64080" bIns="64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 КЛИНИЧКИХ ПРО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9fb"/>
                    </a:solidFill>
                  </a:tcPr>
                </a:tc>
                <a:tc>
                  <a:txBody>
                    <a:bodyPr lIns="80280" rIns="80280" tIns="64080" bIns="64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LASGOW СК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9fb"/>
                    </a:solidFill>
                  </a:tcPr>
                </a:tc>
                <a:tc>
                  <a:txBody>
                    <a:bodyPr lIns="80280" rIns="80280" tIns="64080" bIns="64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9fb"/>
                    </a:solidFill>
                  </a:tcPr>
                </a:tc>
              </a:tr>
              <a:tr h="37980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е ХБО 87%; после ХБО 92%; стање свести: к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204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пре ХБО 92%; после ХБО 98%; стање свести: реагује на грубе дражи и гласан гов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ње свест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удио се из коме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уницира гестови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00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ње свести: говори и х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ње свести: потпуно свестан и орјентис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кинуто ХБО лечење након шестог третм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Контрандикације за примену Х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8920" y="2276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Апсолутн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контраиндик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леч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неумотора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тостатиц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уп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риам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терапиј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ати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олел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рцин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* Малиг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пербарично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* Приме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Б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аиндикова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Контрандикације за примену Х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8920" y="1844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Релативн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контраиндик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рњ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о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спираторно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мфизе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државање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онтролиса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ише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лес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нтан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неумоторакс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мне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тход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конструктив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редње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тход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удн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врђе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ућ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з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иографија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 нал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рус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лаустрофоб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24000" y="98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ЕКСПЕРИМЕНТАЛНИ А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о је све почело код нас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11280" y="162864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Јануар 2017.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ф. др Жарко Финдерле (Директор Института за физиологију Медицинског факултета Универзитета у Љубљани и гостујући професор Факултета медицинских наука) донира хипербаричну комору за мале експерименталне животиње лабораторији за кардиоваскуларну физиолог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ва овакве врсте у земљи и реги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www.medf.kg.ac.rs/images/Zarko_Finderle_2016_2.jpg"/>
          <p:cNvPicPr/>
          <p:nvPr/>
        </p:nvPicPr>
        <p:blipFill>
          <a:blip r:embed="rId1"/>
          <a:stretch/>
        </p:blipFill>
        <p:spPr>
          <a:xfrm>
            <a:off x="1835280" y="3479760"/>
            <a:ext cx="583236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Како је све почело код нас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www.medf.kg.ac.rs/images/Zarko_Finderle_2016_1.jpg"/>
          <p:cNvPicPr/>
          <p:nvPr/>
        </p:nvPicPr>
        <p:blipFill>
          <a:blip r:embed="rId1"/>
          <a:stretch/>
        </p:blipFill>
        <p:spPr>
          <a:xfrm>
            <a:off x="555480" y="2421000"/>
            <a:ext cx="80978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Сродна слика"/>
          <p:cNvPicPr/>
          <p:nvPr/>
        </p:nvPicPr>
        <p:blipFill>
          <a:blip r:embed="rId1"/>
          <a:stretch/>
        </p:blipFill>
        <p:spPr>
          <a:xfrm>
            <a:off x="4716360" y="256536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Сродна слика"/>
          <p:cNvPicPr/>
          <p:nvPr/>
        </p:nvPicPr>
        <p:blipFill>
          <a:blip r:embed="rId2"/>
          <a:stretch/>
        </p:blipFill>
        <p:spPr>
          <a:xfrm>
            <a:off x="539640" y="1341360"/>
            <a:ext cx="4219560" cy="266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Сродна слика"/>
          <p:cNvPicPr/>
          <p:nvPr/>
        </p:nvPicPr>
        <p:blipFill>
          <a:blip r:embed="rId3"/>
          <a:stretch/>
        </p:blipFill>
        <p:spPr>
          <a:xfrm>
            <a:off x="539640" y="4005360"/>
            <a:ext cx="4248360" cy="2523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5076720" y="5805360"/>
            <a:ext cx="30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Једномесне 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BO Medical Centar Беог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ХНИЧКЕ КАРАКТЕРИСТИКЕ КОМОР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B-C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Максимални притисак - 5 б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Температура до 40 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Димензије – 910 х 745 х 47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Тежина – 9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Брзина протока кисеоника – 5-25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амењена за пуњење са медицинским кисеоником (категорија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Делов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главни вентил за доток кисе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мембрански вентил за подешавање радног прит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иглени вентил за фино подеш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маноме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индикатор за регулацију протока кисеоника у ком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сигурносни вент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217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глед хипербаричне ко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491080" cy="3097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56671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9242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Impact"/>
              </a:rPr>
              <a:t>Сцијентометрија </a:t>
            </a:r>
            <a:br>
              <a:rPr sz="36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Резултат слика за scientometrics"/>
          <p:cNvPicPr/>
          <p:nvPr/>
        </p:nvPicPr>
        <p:blipFill>
          <a:blip r:embed="rId1"/>
          <a:srcRect l="0" t="11339" r="0" b="13059"/>
          <a:stretch/>
        </p:blipFill>
        <p:spPr>
          <a:xfrm>
            <a:off x="2843280" y="2924280"/>
            <a:ext cx="33336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Докторске дисерт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8920" y="1844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1.     Ефек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пербарич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сиген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БО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сидоредукцио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ту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олел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iabetes mellitusa tip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др Сандра Тепи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фекти хипербаричне оксигенације на протетичку рехабилитацију болесника са једностраном ампутацијом доњег екстремит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р Игор Симани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ицај прекондиционирања антагонистима L-типа калцијумских канала и никорандилом самостално и у комбинацији са хипербаричном оксигенацијом на функционални опоравак изолованог срца пац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р Нина Симонови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Радови на SCI/CC л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5254" t="11437" r="29724" b="8829"/>
          <a:stretch/>
        </p:blipFill>
        <p:spPr>
          <a:xfrm>
            <a:off x="395280" y="620640"/>
            <a:ext cx="8461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rcRect l="5725" t="11609" r="29522" b="11609"/>
          <a:stretch/>
        </p:blipFill>
        <p:spPr>
          <a:xfrm>
            <a:off x="324000" y="836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66680" y="200160"/>
            <a:ext cx="701064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324000" y="2781360"/>
            <a:ext cx="4608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20115" t="19488" r="21222" b="12594"/>
          <a:stretch/>
        </p:blipFill>
        <p:spPr>
          <a:xfrm>
            <a:off x="611280" y="765000"/>
            <a:ext cx="8137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Историјат хипербаричне медицин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Calibri"/>
              </a:rPr>
              <a:t>Хипербарична медицина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Calibri"/>
              </a:rPr>
              <a:t>*историјат (до XX века)*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915920"/>
            <a:ext cx="8229600" cy="43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1662-1664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. -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британски физича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enshaw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градио прву комору од дрвета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вишен притисак користан за лечење акутних, а снижени за хроничних боле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177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istly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открив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1778. 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Lavoisier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описуј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особине и назива га гасом живота 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xygen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1797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umas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експериментално показује токсичне карактеристик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на плућни паренхим 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четком 19. века у Француској се гради више хипербаричних ком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Calibri"/>
              </a:rPr>
              <a:t>Хипербарична медицина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Calibri"/>
              </a:rPr>
              <a:t>*историјат (oд XX века)*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13336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17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aldane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рист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у лечењу плућне конгестије и едема плу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27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uningham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конструише огромну ХБО комор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у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30. - ХБО почиње да се користи у терапији схизофрен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55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hurchil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Davidso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ристе ХБО у комбинацији са радиотерапијом за повећање сензитивности туморских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56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erem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користи ХБО у кардиохирург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60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lingworth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 успехом користи ХБО у лечењу тровања угљен монокси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Calibri"/>
              </a:rPr>
              <a:t>Хипербарична медицина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Calibri"/>
              </a:rPr>
              <a:t>*историјат (oд XX века)*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000" y="1773000"/>
            <a:ext cx="835164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63. Н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конгресу хипербричне физиологије (Амстердам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Julius H. Jacobson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I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unt Sinai Hospital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чиње своје излагање речениц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"Примена кисеоника под притисцима вишим од атмосферског притиска представља напредак који се по значају може поредити са увођењем трансфузије крви и антибиотика у терапију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acobsonJulius"/>
          <p:cNvPicPr/>
          <p:nvPr/>
        </p:nvPicPr>
        <p:blipFill>
          <a:blip r:embed="rId1"/>
          <a:srcRect l="0" t="12774" r="0" b="0"/>
          <a:stretch/>
        </p:blipFill>
        <p:spPr>
          <a:xfrm>
            <a:off x="3348000" y="3716280"/>
            <a:ext cx="2381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Calibri"/>
              </a:rPr>
              <a:t>Хипербарична медицина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Calibri"/>
              </a:rPr>
              <a:t>*на нашим просторима*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000" y="2133360"/>
            <a:ext cx="835164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969.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дељ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двод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арич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нитетск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луж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т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орнариц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ФР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пли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974.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- ф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рмир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арич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цент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Б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ему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976.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- ВМ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спостављ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ипломс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школо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морс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двод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арич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994/5.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д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иодра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Живковић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кре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ов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цента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арич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Бео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28464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Физиологија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транспорта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кисеоника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условима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хипербаричне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хипероксиј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06:34Z</dcterms:created>
  <dc:creator>Prodekani 2</dc:creator>
  <dc:description/>
  <dc:language>en-US</dc:language>
  <cp:lastModifiedBy>Vladimir Zivkovic</cp:lastModifiedBy>
  <dcterms:modified xsi:type="dcterms:W3CDTF">2020-06-11T20:28:56Z</dcterms:modified>
  <cp:revision>96</cp:revision>
  <dc:subject/>
  <dc:title>Физиологија срца</dc:title>
</cp:coreProperties>
</file>